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275CC-AB05-4548-9F1E-EE09429D89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this set of relationships for me was discovering a treasure right under my no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AC84A-00B0-46CC-A72B-A8A001B8CF35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078-87B0-4FE2-B6B0-27E9ED4E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704-FB6F-4A55-887F-E6C33E8D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521-1C4D-4AB5-B60B-6B158AC3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257-C3A4-485A-9FA8-A49B31BA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D601-FBF7-46ED-A9B3-9B9AB0F9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147D-F315-4FCB-9668-05DD1A7F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ED9E-FE2B-42F1-91F8-56963803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4854-CD03-4E91-85A2-847DB90B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B603-42FE-479D-BFB7-A4EFFF06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319B-D29B-429F-AFB5-38C45FCE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0CBE-51B3-4049-B1F5-ED85CC05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40E-7E9F-4AD2-8257-B496E586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8CEE-4564-4EB6-B154-AD58299A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B444-FE45-4E90-A1F1-CABCA3C6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D292-B3E1-42AA-AAF8-BC87F756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7BDF-287A-49CC-B116-9ED6C051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E28F-1E06-4751-A8DB-26ACDB25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17ED-946D-48FA-B790-CB652EC5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C2B-07F4-4CFB-BAD7-79C76F3E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6497-9BEA-4823-843E-973F0C3D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825-E7DD-48BA-9F45-2647F370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51BB-3ADE-47AE-B7F4-0A7B0A11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E2F-47CB-4A39-9246-8C08FD50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CB6-5A58-4AE4-A133-32E9682C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D80A-576C-41DB-9EA9-44C797724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BF6B-2BFE-4655-947F-5ADBA83D7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iki.esipfed.org/index.php/Air_Quality_Work_Group" TargetMode="External"/><Relationship Id="rId3" Type="http://schemas.openxmlformats.org/officeDocument/2006/relationships/hyperlink" Target="http://wiki.esipfed.org/index.php/Air_Quality_Work_Group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38862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ir Quality Work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05320" y="3048120"/>
            <a:ext cx="1904760" cy="550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47920" y="36576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arth Science Information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91440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SIP Air Quality Work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its role in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ty Information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24680" y="510552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.esipfed.org/index.php/Air_Quality_Work_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280" y="380880"/>
            <a:ext cx="907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0046"/>
                </a:solidFill>
                <a:latin typeface="Verdana"/>
              </a:rPr>
              <a:t>ESIP Air Quality Workgroup</a:t>
            </a:r>
            <a:r>
              <a:rPr b="0" lang="en-US" sz="1600" spc="-1" strike="noStrike">
                <a:solidFill>
                  <a:srgbClr val="460046"/>
                </a:solidFill>
                <a:latin typeface="Verdan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460046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333399"/>
                </a:solidFill>
                <a:latin typeface="Verdana"/>
              </a:rPr>
              <a:t>Formerly known as the ESIP AQ Clu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2193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855800"/>
            <a:ext cx="8458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objective of the ESIP Air Quality Workgroup is to connect air quality data consumers with the providers of those data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inging people and ideas together on how to deliver ES data to AQ researchers, managers and oth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ilitate and demonstrate the information flow among data providers to air quality consumer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2590920"/>
            <a:ext cx="4800600" cy="916920"/>
          </a:xfrm>
          <a:prstGeom prst="rect">
            <a:avLst/>
          </a:prstGeom>
          <a:solidFill>
            <a:srgbClr val="ffff99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nversation is king. Content is just something to talk abou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-Cory Docto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590920"/>
            <a:ext cx="6340680" cy="1434600"/>
          </a:xfrm>
          <a:prstGeom prst="rect">
            <a:avLst/>
          </a:prstGeom>
          <a:solidFill>
            <a:srgbClr val="ffff99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mmunities of Practice are groups of people who interact about a common activity of interest with the objective of exchanging information, collaborating and learning how to improve that 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Based on definition by Etienne We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63737E-006 L 3.33333E-006 -0.42183 E">
                                      <p:cBhvr>
                                        <p:cTn id="1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63737E-006 L 3.33333E-006 -0.42183 E">
                                      <p:cBhvr>
                                        <p:cTn id="25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719240" y="4038480"/>
            <a:ext cx="209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93480" y="4255920"/>
            <a:ext cx="1652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A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GC OWS test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OSS pil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PA Data Sum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5080" y="2133720"/>
            <a:ext cx="16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als / Catalo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3480" y="246240"/>
            <a:ext cx="232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SA Programs/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6800" y="3370320"/>
            <a:ext cx="21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PA Programs/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00" y="5257800"/>
            <a:ext cx="23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AA Programs/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720" y="5486400"/>
            <a:ext cx="29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ir Quality Forecasting (Fine, NESD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GDC (Haberman, Kozim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azard Mapping System (Ruminsk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4000" y="457200"/>
            <a:ext cx="358668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ASoN (Friedl, Mo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RAP (Ambrosia, Sulliv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DAC (Morain, Benedict, Hudspe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ITS (Di, Ya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Q Web Infrastructure (Husar, Falk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 (Lindsay, Mai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iovanni (GSFC – Kemp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ISIONS (Fried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D-AQS (Hoffman, Engel-Cox, Prad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S for BlueskyRAINS (Sullivan, Raff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ra in AQ Forecasting (McHen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EWS/TSS (Shankar, McCl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IST (Mo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MITS (Falk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sor Web Architecture &amp; Demo (Mand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8920" y="3598920"/>
            <a:ext cx="35470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MI (Young, Kea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O (Young, Washburn, Lyon, Fol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irNOW (Wayland, Dicker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AQPS (Scheffe, Frank, Dimmick, Solom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EA (Szyk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AP (Kea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mote Sensing Gateway (Paulson, Wal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vironmental Science Connector (Kapuscinsk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97000" y="609480"/>
            <a:ext cx="25930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Fed (Hus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data (Domenico, Ramamurth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DE (Ambrosia, Sulliv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iovanni (Leptoukh, Prad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ITS (D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SG (Paul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ISGEI (Falk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EWS (McCl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2480" y="6095880"/>
            <a:ext cx="30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est Service Programs/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9440" y="6324480"/>
            <a:ext cx="2067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luesky (Larkin, Goodr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35760" y="0"/>
            <a:ext cx="56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  <a:ea typeface="Arial"/>
              </a:rPr>
              <a:t>The Air Quality Web Landsca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not comprehens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7600" y="38088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di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7720" y="2362320"/>
            <a:ext cx="3066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O Por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th Information Exchange (ESI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th Observation Portal (GE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ospatial One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vironmental Science Connector (EP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lobal Change Master Directory (GCM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CHO (N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AD (NS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2120" y="609588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02040" y="6324480"/>
            <a:ext cx="107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A/KM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EOS A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24640" y="51814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94120" y="5410080"/>
            <a:ext cx="309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ra in AQ Forecasting (Lamb, Vaugh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ermont (Poir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280" y="85320"/>
            <a:ext cx="907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0046"/>
                </a:solidFill>
                <a:latin typeface="Verdana"/>
              </a:rPr>
              <a:t>ESIP Air Quality Workgroup</a:t>
            </a:r>
            <a:r>
              <a:rPr b="0" lang="en-US" sz="1600" spc="-1" strike="noStrike">
                <a:solidFill>
                  <a:srgbClr val="46004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2193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2070000"/>
            <a:ext cx="304920" cy="152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1994040"/>
            <a:ext cx="152280" cy="228600"/>
          </a:xfrm>
          <a:prstGeom prst="flowChartMagneticDisk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2298600"/>
            <a:ext cx="152280" cy="22860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2222640"/>
            <a:ext cx="30456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298600"/>
            <a:ext cx="304920" cy="152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2298600"/>
            <a:ext cx="304920" cy="152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2222640"/>
            <a:ext cx="457200" cy="304560"/>
          </a:xfrm>
          <a:prstGeom prst="flowChartDocumen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20700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657600" y="2298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2298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267080" y="21459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23749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214632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374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16891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7720" y="168912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methods,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4160" y="2079720"/>
            <a:ext cx="2438280" cy="287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0120" y="2079720"/>
            <a:ext cx="22258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Q Workgroup brings together groups and helps</a:t>
            </a: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 build </a:t>
            </a:r>
            <a:r>
              <a:rPr b="1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links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mong them in order to achieve an effective use of data in decision-making that could not be achieved by any organization acting on its ow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81280" y="2603520"/>
            <a:ext cx="152640" cy="228600"/>
          </a:xfrm>
          <a:prstGeom prst="flowChartMagneticDisk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733920" y="237456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365640"/>
            <a:ext cx="152640" cy="228600"/>
          </a:xfrm>
          <a:prstGeom prst="flowChartMagneticDisk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670200"/>
            <a:ext cx="152280" cy="22860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3594240"/>
            <a:ext cx="304920" cy="152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3670200"/>
            <a:ext cx="304920" cy="152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3670200"/>
            <a:ext cx="304560" cy="152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3594240"/>
            <a:ext cx="457200" cy="304560"/>
          </a:xfrm>
          <a:prstGeom prst="flowChartDocumen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3441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581280" y="36702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36702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3746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3746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30607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31400" y="306072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methods,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57040" y="2035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96920" y="3289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96560" y="4356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9240" y="4203720"/>
            <a:ext cx="307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91440" y="2013120"/>
            <a:ext cx="2438280" cy="307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67400" y="2013120"/>
            <a:ext cx="222588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0000"/>
                </a:solidFill>
                <a:latin typeface="Verdana"/>
              </a:rPr>
              <a:t>AQ Workgroup aids in </a:t>
            </a:r>
            <a:r>
              <a:rPr b="1" i="1" lang="en-US" sz="1500" spc="-1" strike="noStrike" u="sng">
                <a:solidFill>
                  <a:srgbClr val="cc0000"/>
                </a:solidFill>
                <a:uFillTx/>
                <a:latin typeface="Verdana"/>
              </a:rPr>
              <a:t>reuse</a:t>
            </a:r>
            <a:r>
              <a:rPr b="0" lang="en-US" sz="1500" spc="-1" strike="noStrike">
                <a:solidFill>
                  <a:srgbClr val="cc0000"/>
                </a:solidFill>
                <a:latin typeface="Verdana"/>
              </a:rPr>
              <a:t> of data, processing tools and other services so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that projects, programs and agencies avoid the end-to-end burden of developing those capabilities or having to create the connections themselv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3440" y="168912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87120" y="306072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2590920"/>
            <a:ext cx="6340680" cy="1191240"/>
          </a:xfrm>
          <a:prstGeom prst="rect">
            <a:avLst/>
          </a:prstGeom>
          <a:solidFill>
            <a:srgbClr val="ffff99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ere is no one specific Internet or multiple Internets; it is a vast, shifting network connecting devices dynamically….No one entity owns it or controls i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overner et al., “Web 2.0 Architectur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63737E-006 L 3.33333E-006 -0.42183 E">
                                      <p:cBhvr>
                                        <p:cTn id="4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15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nt Examples related to Proposal Respo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P AQ Workgroup should not serve as PI or co-P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 provide the framework or environment in which the PI, co-PIs and collaborators work among themselves and with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 Process Example: Response to recent GEO CF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of regular interaction in the AQ Workgroup, two groups preparing an AQ application proposal for India became aware of their respective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ways to combine efforts into single proposal that was more responsive to the CFP and that enhanced each grou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laboration in the US also led to discovery of collaborations in 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4876920"/>
            <a:ext cx="6750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ow do we do that kind of discovery, identification, acknowledgement and collaboration with data and other services within an information infrastruc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7"/>
          <p:cNvSpPr/>
          <p:nvPr/>
        </p:nvSpPr>
        <p:spPr>
          <a:xfrm>
            <a:off x="3276720" y="228600"/>
            <a:ext cx="34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40"/>
          <p:cNvGrpSpPr/>
          <p:nvPr/>
        </p:nvGrpSpPr>
        <p:grpSpPr>
          <a:xfrm>
            <a:off x="990720" y="990720"/>
            <a:ext cx="7696080" cy="5638680"/>
            <a:chOff x="990720" y="990720"/>
            <a:chExt cx="7696080" cy="5638680"/>
          </a:xfrm>
        </p:grpSpPr>
        <p:grpSp>
          <p:nvGrpSpPr>
            <p:cNvPr id="167" name="Group 37"/>
            <p:cNvGrpSpPr/>
            <p:nvPr/>
          </p:nvGrpSpPr>
          <p:grpSpPr>
            <a:xfrm>
              <a:off x="990720" y="990720"/>
              <a:ext cx="7696080" cy="5638680"/>
              <a:chOff x="990720" y="990720"/>
              <a:chExt cx="7696080" cy="5638680"/>
            </a:xfrm>
          </p:grpSpPr>
          <p:sp>
            <p:nvSpPr>
              <p:cNvPr id="168" name="Rectangle 23"/>
              <p:cNvSpPr/>
              <p:nvPr/>
            </p:nvSpPr>
            <p:spPr>
              <a:xfrm>
                <a:off x="4495680" y="990720"/>
                <a:ext cx="4191120" cy="1523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23"/>
              <p:cNvSpPr/>
              <p:nvPr/>
            </p:nvSpPr>
            <p:spPr>
              <a:xfrm>
                <a:off x="990720" y="5029200"/>
                <a:ext cx="3809880" cy="1600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23"/>
              <p:cNvSpPr/>
              <p:nvPr/>
            </p:nvSpPr>
            <p:spPr>
              <a:xfrm>
                <a:off x="3962520" y="1523880"/>
                <a:ext cx="4724280" cy="5105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39"/>
              <p:cNvSpPr/>
              <p:nvPr/>
            </p:nvSpPr>
            <p:spPr>
              <a:xfrm>
                <a:off x="4629240" y="990720"/>
                <a:ext cx="3905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egistered Community Resourc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38"/>
            <p:cNvGrpSpPr/>
            <p:nvPr/>
          </p:nvGrpSpPr>
          <p:grpSpPr>
            <a:xfrm>
              <a:off x="4191120" y="1676520"/>
              <a:ext cx="4343400" cy="1066680"/>
              <a:chOff x="4191120" y="1676520"/>
              <a:chExt cx="4343400" cy="1066680"/>
            </a:xfrm>
          </p:grpSpPr>
          <p:sp>
            <p:nvSpPr>
              <p:cNvPr id="173" name="Rounded Rectangle 57"/>
              <p:cNvSpPr/>
              <p:nvPr/>
            </p:nvSpPr>
            <p:spPr>
              <a:xfrm>
                <a:off x="4191120" y="1676520"/>
                <a:ext cx="4343400" cy="1066680"/>
              </a:xfrm>
              <a:prstGeom prst="roundRect">
                <a:avLst>
                  <a:gd name="adj" fmla="val 16667"/>
                </a:avLst>
              </a:prstGeom>
              <a:solidFill>
                <a:srgbClr val="9bed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"/>
              <p:cNvSpPr/>
              <p:nvPr/>
            </p:nvSpPr>
            <p:spPr>
              <a:xfrm>
                <a:off x="4489560" y="1981080"/>
                <a:ext cx="14619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99"/>
                    </a:solidFill>
                    <a:latin typeface="Arial"/>
                    <a:ea typeface="ＭＳ Ｐゴシック"/>
                  </a:rPr>
                  <a:t>Community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or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"/>
              <p:cNvSpPr/>
              <p:nvPr/>
            </p:nvSpPr>
            <p:spPr>
              <a:xfrm>
                <a:off x="6470640" y="1981080"/>
                <a:ext cx="15303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lient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pplica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13"/>
              <p:cNvSpPr/>
              <p:nvPr/>
            </p:nvSpPr>
            <p:spPr>
              <a:xfrm>
                <a:off x="7464960" y="1685880"/>
                <a:ext cx="992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lient Ti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39"/>
            <p:cNvGrpSpPr/>
            <p:nvPr/>
          </p:nvGrpSpPr>
          <p:grpSpPr>
            <a:xfrm>
              <a:off x="4191120" y="2971800"/>
              <a:ext cx="4343400" cy="1981080"/>
              <a:chOff x="4191120" y="2971800"/>
              <a:chExt cx="4343400" cy="1981080"/>
            </a:xfrm>
          </p:grpSpPr>
          <p:sp>
            <p:nvSpPr>
              <p:cNvPr id="178" name="Rounded Rectangle 58"/>
              <p:cNvSpPr/>
              <p:nvPr/>
            </p:nvSpPr>
            <p:spPr>
              <a:xfrm>
                <a:off x="4191120" y="2971800"/>
                <a:ext cx="4343400" cy="1981080"/>
              </a:xfrm>
              <a:prstGeom prst="roundRect">
                <a:avLst>
                  <a:gd name="adj" fmla="val 16667"/>
                </a:avLst>
              </a:prstGeom>
              <a:solidFill>
                <a:srgbClr val="78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7"/>
              <p:cNvSpPr/>
              <p:nvPr/>
            </p:nvSpPr>
            <p:spPr>
              <a:xfrm>
                <a:off x="6303960" y="3044520"/>
                <a:ext cx="195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Business Process Ti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9"/>
              <p:cNvSpPr/>
              <p:nvPr/>
            </p:nvSpPr>
            <p:spPr>
              <a:xfrm>
                <a:off x="4489560" y="3352680"/>
                <a:ext cx="15303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99"/>
                    </a:solidFill>
                    <a:latin typeface="Arial"/>
                    <a:ea typeface="ＭＳ Ｐゴシック"/>
                  </a:rPr>
                  <a:t>Communi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atalogu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9"/>
              <p:cNvSpPr/>
              <p:nvPr/>
            </p:nvSpPr>
            <p:spPr>
              <a:xfrm>
                <a:off x="4489560" y="4114800"/>
                <a:ext cx="15303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le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erv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"/>
              <p:cNvSpPr/>
              <p:nvPr/>
            </p:nvSpPr>
            <p:spPr>
              <a:xfrm>
                <a:off x="6546960" y="3352680"/>
                <a:ext cx="15303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orkflow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anage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"/>
              <p:cNvSpPr/>
              <p:nvPr/>
            </p:nvSpPr>
            <p:spPr>
              <a:xfrm>
                <a:off x="6546960" y="4114800"/>
                <a:ext cx="15303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roces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erv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40"/>
            <p:cNvGrpSpPr/>
            <p:nvPr/>
          </p:nvGrpSpPr>
          <p:grpSpPr>
            <a:xfrm>
              <a:off x="1447920" y="5181840"/>
              <a:ext cx="7086600" cy="1295280"/>
              <a:chOff x="1447920" y="5181840"/>
              <a:chExt cx="7086600" cy="1295280"/>
            </a:xfrm>
          </p:grpSpPr>
          <p:sp>
            <p:nvSpPr>
              <p:cNvPr id="185" name="Rounded Rectangle 59"/>
              <p:cNvSpPr/>
              <p:nvPr/>
            </p:nvSpPr>
            <p:spPr>
              <a:xfrm>
                <a:off x="1447920" y="5181840"/>
                <a:ext cx="708660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382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8"/>
              <p:cNvSpPr/>
              <p:nvPr/>
            </p:nvSpPr>
            <p:spPr>
              <a:xfrm>
                <a:off x="7346160" y="5229360"/>
                <a:ext cx="111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Access Ti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9"/>
              <p:cNvSpPr/>
              <p:nvPr/>
            </p:nvSpPr>
            <p:spPr>
              <a:xfrm>
                <a:off x="1752480" y="5562720"/>
                <a:ext cx="14475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GEONETCa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9"/>
              <p:cNvSpPr/>
              <p:nvPr/>
            </p:nvSpPr>
            <p:spPr>
              <a:xfrm>
                <a:off x="3315240" y="5562720"/>
                <a:ext cx="152388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roduct Acc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erv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9"/>
              <p:cNvSpPr/>
              <p:nvPr/>
            </p:nvSpPr>
            <p:spPr>
              <a:xfrm>
                <a:off x="4953240" y="5562720"/>
                <a:ext cx="14475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ensor We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erv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9"/>
              <p:cNvSpPr/>
              <p:nvPr/>
            </p:nvSpPr>
            <p:spPr>
              <a:xfrm>
                <a:off x="6553440" y="5562720"/>
                <a:ext cx="14475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odel Acc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erv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Group 36"/>
          <p:cNvGrpSpPr/>
          <p:nvPr/>
        </p:nvGrpSpPr>
        <p:grpSpPr>
          <a:xfrm>
            <a:off x="380880" y="914400"/>
            <a:ext cx="4038840" cy="3962520"/>
            <a:chOff x="380880" y="914400"/>
            <a:chExt cx="4038840" cy="3962520"/>
          </a:xfrm>
        </p:grpSpPr>
        <p:sp>
          <p:nvSpPr>
            <p:cNvPr id="192" name="Rounded Rectangle 96"/>
            <p:cNvSpPr/>
            <p:nvPr/>
          </p:nvSpPr>
          <p:spPr>
            <a:xfrm>
              <a:off x="380880" y="990360"/>
              <a:ext cx="3429360" cy="3886560"/>
            </a:xfrm>
            <a:custGeom>
              <a:avLst/>
              <a:gdLst>
                <a:gd name="textAreaLeft" fmla="*/ 167400 w 3429360"/>
                <a:gd name="textAreaRight" fmla="*/ 3261960 w 3429360"/>
                <a:gd name="textAreaTop" fmla="*/ 167400 h 3886560"/>
                <a:gd name="textAreaBottom" fmla="*/ 3719160 h 3886560"/>
              </a:gdLst>
              <a:ahLst/>
              <a:rect l="textAreaLeft" t="textAreaTop" r="textAreaRight" b="textAreaBottom"/>
              <a:pathLst>
                <a:path w="21600" h="24479">
                  <a:moveTo>
                    <a:pt x="3600" y="0"/>
                  </a:moveTo>
                  <a:arcTo wR="3600" hR="3600" stAng="16200000" swAng="-5400000"/>
                  <a:lnTo>
                    <a:pt x="0" y="20879"/>
                  </a:lnTo>
                  <a:arcTo wR="3600" hR="3600" stAng="10800000" swAng="-5400000"/>
                  <a:lnTo>
                    <a:pt x="18000" y="244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1"/>
            <p:cNvSpPr/>
            <p:nvPr/>
          </p:nvSpPr>
          <p:spPr>
            <a:xfrm>
              <a:off x="2209680" y="3362400"/>
              <a:ext cx="1447920" cy="600120"/>
            </a:xfrm>
            <a:prstGeom prst="rect">
              <a:avLst/>
            </a:prstGeom>
            <a:solidFill>
              <a:srgbClr val="789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O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earingho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9"/>
            <p:cNvSpPr/>
            <p:nvPr/>
          </p:nvSpPr>
          <p:spPr>
            <a:xfrm>
              <a:off x="2209680" y="1942920"/>
              <a:ext cx="1440000" cy="647640"/>
            </a:xfrm>
            <a:prstGeom prst="rect">
              <a:avLst/>
            </a:prstGeom>
            <a:solidFill>
              <a:srgbClr val="87ef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eb Port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94"/>
            <p:cNvSpPr/>
            <p:nvPr/>
          </p:nvSpPr>
          <p:spPr>
            <a:xfrm>
              <a:off x="610560" y="1029960"/>
              <a:ext cx="232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  <a:ea typeface="ＭＳ Ｐゴシック"/>
                </a:rPr>
                <a:t>GEOSS Comm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  <a:ea typeface="ＭＳ Ｐゴシック"/>
                </a:rPr>
                <a:t>Infrastruc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72"/>
            <p:cNvGrpSpPr/>
            <p:nvPr/>
          </p:nvGrpSpPr>
          <p:grpSpPr>
            <a:xfrm>
              <a:off x="609480" y="2171520"/>
              <a:ext cx="1523880" cy="2552760"/>
              <a:chOff x="609480" y="2171520"/>
              <a:chExt cx="1523880" cy="2552760"/>
            </a:xfrm>
          </p:grpSpPr>
          <p:sp>
            <p:nvSpPr>
              <p:cNvPr id="197" name="AutoShape 4"/>
              <p:cNvSpPr/>
              <p:nvPr/>
            </p:nvSpPr>
            <p:spPr>
              <a:xfrm>
                <a:off x="609480" y="2171520"/>
                <a:ext cx="1523880" cy="2552760"/>
              </a:xfrm>
              <a:custGeom>
                <a:avLst/>
                <a:gdLst>
                  <a:gd name="textAreaLeft" fmla="*/ 42840 w 1523880"/>
                  <a:gd name="textAreaRight" fmla="*/ 1481040 w 1523880"/>
                  <a:gd name="textAreaTop" fmla="*/ 42840 h 2552760"/>
                  <a:gd name="textAreaBottom" fmla="*/ 2509920 h 2552760"/>
                </a:gdLst>
                <a:ahLst/>
                <a:rect l="textAreaLeft" t="textAreaTop" r="textAreaRight" b="textAreaBottom"/>
                <a:pathLst>
                  <a:path w="21600" h="36180">
                    <a:moveTo>
                      <a:pt x="2083" y="0"/>
                    </a:moveTo>
                    <a:arcTo wR="2083" hR="2083" stAng="16200000" swAng="-5400000"/>
                    <a:lnTo>
                      <a:pt x="0" y="34097"/>
                    </a:lnTo>
                    <a:arcTo wR="2083" hR="2083" stAng="10800000" swAng="-5400000"/>
                    <a:lnTo>
                      <a:pt x="19517" y="36180"/>
                    </a:lnTo>
                    <a:arcTo wR="2083" hR="2083" stAng="5400000" swAng="-5400000"/>
                    <a:lnTo>
                      <a:pt x="21600" y="2083"/>
                    </a:lnTo>
                    <a:arcTo wR="2083" hR="2083" stAng="0" swAng="-5400000"/>
                    <a:close/>
                  </a:path>
                </a:pathLst>
              </a:custGeom>
              <a:solidFill>
                <a:srgbClr val="76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5"/>
              <p:cNvSpPr/>
              <p:nvPr/>
            </p:nvSpPr>
            <p:spPr>
              <a:xfrm>
                <a:off x="719640" y="2552400"/>
                <a:ext cx="1288440" cy="49536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omponent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&amp; 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6"/>
              <p:cNvSpPr/>
              <p:nvPr/>
            </p:nvSpPr>
            <p:spPr>
              <a:xfrm>
                <a:off x="717480" y="3124080"/>
                <a:ext cx="1276200" cy="45720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tandards 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Interoperabil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66"/>
              <p:cNvSpPr/>
              <p:nvPr/>
            </p:nvSpPr>
            <p:spPr>
              <a:xfrm>
                <a:off x="723600" y="3657600"/>
                <a:ext cx="1276200" cy="40932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Best Pract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Wik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67"/>
              <p:cNvSpPr/>
              <p:nvPr/>
            </p:nvSpPr>
            <p:spPr>
              <a:xfrm>
                <a:off x="723600" y="4114800"/>
                <a:ext cx="1276200" cy="48096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User Requir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85"/>
              <p:cNvSpPr/>
              <p:nvPr/>
            </p:nvSpPr>
            <p:spPr>
              <a:xfrm>
                <a:off x="761760" y="2201400"/>
                <a:ext cx="11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egistri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Rectangle 40"/>
            <p:cNvSpPr/>
            <p:nvPr/>
          </p:nvSpPr>
          <p:spPr>
            <a:xfrm>
              <a:off x="3200400" y="914400"/>
              <a:ext cx="1219320" cy="557280"/>
            </a:xfrm>
            <a:prstGeom prst="rect">
              <a:avLst/>
            </a:prstGeom>
            <a:solidFill>
              <a:srgbClr val="87eff9"/>
            </a:solidFill>
            <a:ln w="93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in G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eb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48840"/>
            <a:ext cx="56102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chitecture Implementation Pilot Augmenting G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OSS Architecture Implementation Pi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562360" cy="3879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115520" y="312408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olving A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2514600"/>
            <a:ext cx="6858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352320" y="2743200"/>
            <a:ext cx="12193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57800" y="2133360"/>
            <a:ext cx="129528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28600" y="3240000"/>
            <a:ext cx="3733920" cy="361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486480" y="1812960"/>
            <a:ext cx="685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CALP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W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16765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76920" y="1905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GetC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37339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1295280"/>
            <a:ext cx="914400" cy="609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F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Smo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rcRect l="10445" t="32302" r="44874" b="1244"/>
          <a:stretch/>
        </p:blipFill>
        <p:spPr>
          <a:xfrm>
            <a:off x="2666880" y="3827520"/>
            <a:ext cx="4672080" cy="303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2590920" y="6248520"/>
            <a:ext cx="4572000" cy="380880"/>
          </a:xfrm>
          <a:prstGeom prst="ellipse">
            <a:avLst/>
          </a:prstGeom>
          <a:solidFill>
            <a:srgbClr val="ffff99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path" presetID="35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-4.91329E-006 L -0.10799 -0.01156 E">
                                      <p:cBhvr>
                                        <p:cTn id="66" dur="5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500"/>
                            </p:stCondLst>
                            <p:childTnLst>
                              <p:par>
                                <p:cTn id="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500"/>
                            </p:stCondLst>
                            <p:childTnLst>
                              <p:par>
                                <p:cTn id="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21965E-006 L 0.16632 0.23353 E">
                                      <p:cBhvr>
                                        <p:cTn id="77" dur="5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3500"/>
                            </p:stCondLst>
                            <p:childTnLst>
                              <p:par>
                                <p:cTn id="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4500"/>
                            </p:stCondLst>
                            <p:childTnLst>
                              <p:par>
                                <p:cTn id="8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27746E-006 L -0.22465 0.09942 E">
                                      <p:cBhvr>
                                        <p:cTn id="88" dur="5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9500"/>
                            </p:stCondLst>
                            <p:childTnLst>
                              <p:par>
                                <p:cTn id="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58382E-006 L -0.08333 0.11099 E">
                                      <p:cBhvr>
                                        <p:cTn id="114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2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7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OSS AIP – AQ Upfront Expec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ter awareness across commun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ing interoperability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mentary projects and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collabo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ter understanding and use of proposed standards and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ation of intra- and inter-system data ex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ty-level Standardization (e.g., of parameter cod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ter use of existing data an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 data services available to more users within the air quality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quire additional data sets from other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 across data services (capture data lineag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raging and reuse of existing resources through service-ch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value of existing development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 of complementary data sources and components for integrated analy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ter understanding of GEOSS and how to contribute and us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rity and agreement on best practices, and approa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ller” sce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re do we go nex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ngage particip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e don’t have critical mass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ommunity-based conventions/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s Implementation (defining standards is just part of the process. Implementing them hasn’t received the same atten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ance/conformance engines can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ore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eep building on previous effo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past data registration and search and in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onvey concep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 that everyone sees where they fit in and what’s in it f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move from abstract to tangible, get past architectur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s to be something others can buil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17:32:38Z</dcterms:created>
  <dc:creator>s</dc:creator>
  <dc:description/>
  <dc:language>en-US</dc:language>
  <cp:lastModifiedBy>David McCabe</cp:lastModifiedBy>
  <dcterms:modified xsi:type="dcterms:W3CDTF">2009-07-09T17:29:51Z</dcterms:modified>
  <cp:revision>144</cp:revision>
  <dc:subject/>
  <dc:title>Slide 1</dc:title>
</cp:coreProperties>
</file>